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ct" ContentType="image/x-pict"/>
  <Override PartName="/ppt/media/image2.png" ContentType="image/png"/>
  <Override PartName="/ppt/media/image3.png" ContentType="image/png"/>
  <Override PartName="/ppt/media/image4.pct" ContentType="image/x-pi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90CD66-F9AB-4AEB-9777-EB18D711B8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b1db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6734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DE3101-7992-4D5C-9BA6-1FEE8B2F0C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b1dbff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673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673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C49E4A-03D7-4A4D-AB1A-C037454CA0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b1dbff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673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673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673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2D0D56-34EB-49B0-8245-DCCD056913C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b1db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9DF540-7B9E-483F-BA63-CC36CEF9188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b1db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417556-BC6D-40BC-B917-5BF43E87E4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b1db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796D8B-B442-49CE-AF02-953A2CC578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b1db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35C9F5-8850-410E-A172-258CD69964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28600" y="7632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94805A-C489-4016-AF35-E455E3C359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b1dbff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673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307EF8-DEEB-4E22-B223-2C14F7A3BF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b1dbff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673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344656-29CD-406D-92B2-81ADCF4357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b1db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6734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D2AFF4-36DE-468E-B7C8-D9B6B0FB5A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c7dc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b1dbff"/>
                </a:solidFill>
                <a:latin typeface="Times New Roman"/>
              </a:rPr>
              <a:t>Click to edit the title text format</a:t>
            </a:r>
            <a:endParaRPr b="1" i="1" lang="en-US" sz="3200" spc="-1" strike="noStrike">
              <a:solidFill>
                <a:srgbClr val="b1dbff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b1db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b1db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b1dbff"/>
              </a:buClr>
              <a:buSzPct val="8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1dbf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b1db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447560" y="6400440"/>
            <a:ext cx="51051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eservation &amp; Stewardship Track Introduction - R. Duer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SIP Federation Meeting, Santa Barbara, July 2009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5960" y="6457680"/>
            <a:ext cx="1066680" cy="1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70BA1-84BF-4D24-91C2-44B0E534092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04920" y="685800"/>
            <a:ext cx="8458200" cy="0"/>
          </a:xfrm>
          <a:prstGeom prst="line">
            <a:avLst/>
          </a:prstGeom>
          <a:ln w="1260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010280" y="6324480"/>
            <a:ext cx="2001960" cy="455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1.pct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27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2666880"/>
            <a:ext cx="9144000" cy="2286000"/>
          </a:xfrm>
          <a:prstGeom prst="rect">
            <a:avLst/>
          </a:prstGeom>
          <a:solidFill>
            <a:srgbClr val="c7dc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952880" y="1676520"/>
            <a:ext cx="3664080" cy="711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76320" y="2773440"/>
            <a:ext cx="2835000" cy="21034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124080" y="31237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Preservation &amp; Stewardship</a:t>
            </a:r>
            <a:endParaRPr b="1" i="1" lang="en-US" sz="3600" spc="-1" strike="noStrike">
              <a:solidFill>
                <a:srgbClr val="b1db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123720" y="3962160"/>
            <a:ext cx="53341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66"/>
                </a:solidFill>
                <a:latin typeface="Times New Roman"/>
              </a:rPr>
              <a:t>Introdu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4876920" y="609480"/>
            <a:ext cx="3124080" cy="7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b1dbff"/>
                </a:solidFill>
                <a:latin typeface="Times New Roman"/>
              </a:rPr>
              <a:t>Overview of Events:</a:t>
            </a:r>
            <a:endParaRPr b="1" i="1" lang="en-US" sz="3200" spc="-1" strike="noStrike">
              <a:solidFill>
                <a:srgbClr val="b1dbff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191120" y="123840"/>
            <a:ext cx="4295520" cy="59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b1dbff"/>
                </a:solidFill>
                <a:latin typeface="Times New Roman"/>
              </a:rPr>
              <a:t>Things to think about as you attend sessions</a:t>
            </a:r>
            <a:endParaRPr b="1" i="1" lang="en-US" sz="3200" spc="-1" strike="noStrike">
              <a:solidFill>
                <a:srgbClr val="b1db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1db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data stewardship lessons can be learne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1db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issues should be brought forward at the provenance workshop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7T05:28:48Z</dcterms:created>
  <dc:creator>Ruth Duerr</dc:creator>
  <dc:description/>
  <dc:language>en-US</dc:language>
  <cp:lastModifiedBy>Ruth Duerr</cp:lastModifiedBy>
  <cp:lastPrinted>2002-10-01T17:30:54Z</cp:lastPrinted>
  <dcterms:modified xsi:type="dcterms:W3CDTF">2009-07-08T03:48:50Z</dcterms:modified>
  <cp:revision>2</cp:revision>
  <dc:subject/>
  <dc:title>Preservation &amp; Stewardship</dc:title>
</cp:coreProperties>
</file>